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859-DD86-4C55-80C0-58117DD8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FDE-C2A0-40CD-9B25-540D6967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094-E727-4DD3-873C-670E14BC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38D-A1AD-46C4-AE63-E7615D45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C98-1AEA-437A-99A6-335AC153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7D1-C2EA-4EC5-9D9F-8A0C8790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E61-8235-4109-AE23-F2D7F5E3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961-F691-4C5D-9FE5-94343365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D3B-1EC5-4DA1-93C6-9A318E46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8FF-7F58-499B-A74B-60A7A78D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6D9-DF3A-4256-8D8F-BFD8B6B9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66C-5381-4AC3-9951-BC84F1DC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C6CE-AF4C-4FDA-AFDA-2D61251E8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971800" y="152280"/>
            <a:ext cx="5486400" cy="885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6320" y="1076400"/>
            <a:ext cx="4647960" cy="37242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44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45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49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58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676520" y="5221440"/>
            <a:ext cx="2057400" cy="8618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64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68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72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76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800600" y="135576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Help the Bee practice To 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82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83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91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567800" y="2414520"/>
            <a:ext cx="1250280" cy="1160280"/>
            <a:chOff x="1567800" y="2414520"/>
            <a:chExt cx="1250280" cy="1160280"/>
          </a:xfrm>
        </p:grpSpPr>
        <p:sp>
          <p:nvSpPr>
            <p:cNvPr id="95" name=""/>
            <p:cNvSpPr/>
            <p:nvPr/>
          </p:nvSpPr>
          <p:spPr>
            <a:xfrm rot="18514800">
              <a:off x="2160000" y="260568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8514800">
              <a:off x="2326680" y="274680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228760" y="2414520"/>
              <a:ext cx="589320" cy="671040"/>
              <a:chOff x="2228760" y="2414520"/>
              <a:chExt cx="589320" cy="6710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536920" y="2414520"/>
                <a:ext cx="109440" cy="153720"/>
                <a:chOff x="2536920" y="2414520"/>
                <a:chExt cx="109440" cy="153720"/>
              </a:xfrm>
            </p:grpSpPr>
            <p:sp>
              <p:nvSpPr>
                <p:cNvPr id="99" name=""/>
                <p:cNvSpPr/>
                <p:nvPr/>
              </p:nvSpPr>
              <p:spPr>
                <a:xfrm rot="18514800">
                  <a:off x="2571480" y="242604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rot="18514800">
                  <a:off x="2536560" y="248256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668320" y="2550600"/>
                <a:ext cx="149760" cy="120600"/>
                <a:chOff x="2668320" y="2550600"/>
                <a:chExt cx="149760" cy="120600"/>
              </a:xfrm>
            </p:grpSpPr>
            <p:sp>
              <p:nvSpPr>
                <p:cNvPr id="102" name=""/>
                <p:cNvSpPr/>
                <p:nvPr/>
              </p:nvSpPr>
              <p:spPr>
                <a:xfrm flipV="1" rot="18514800">
                  <a:off x="2751480" y="256428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 rot="18514800">
                  <a:off x="2669400" y="258228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 rot="18514800">
                <a:off x="2259000" y="272196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8514800">
                <a:off x="2460240" y="268380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8514800">
                <a:off x="2410920" y="274680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8514800">
                <a:off x="2365920" y="281988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8514800">
                <a:off x="2476800" y="255816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rot="18514800">
              <a:off x="2586240" y="25750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8514800">
              <a:off x="2643480" y="26146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8514800">
              <a:off x="1636200" y="291600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710240" y="2724120"/>
            <a:ext cx="4205160" cy="2903400"/>
            <a:chOff x="4710240" y="2724120"/>
            <a:chExt cx="4205160" cy="2903400"/>
          </a:xfrm>
        </p:grpSpPr>
        <p:sp>
          <p:nvSpPr>
            <p:cNvPr id="113" name=""/>
            <p:cNvSpPr/>
            <p:nvPr/>
          </p:nvSpPr>
          <p:spPr>
            <a:xfrm>
              <a:off x="4710240" y="4068360"/>
              <a:ext cx="1919880" cy="1253880"/>
            </a:xfrm>
            <a:custGeom>
              <a:avLst/>
              <a:gdLst/>
              <a:ahLst/>
              <a:rect l="l" t="t" r="r" b="b"/>
              <a:pathLst>
                <a:path w="1208" h="734">
                  <a:moveTo>
                    <a:pt x="1177" y="629"/>
                  </a:moveTo>
                  <a:cubicBezTo>
                    <a:pt x="1146" y="526"/>
                    <a:pt x="724" y="170"/>
                    <a:pt x="547" y="85"/>
                  </a:cubicBezTo>
                  <a:cubicBezTo>
                    <a:pt x="370" y="0"/>
                    <a:pt x="231" y="6"/>
                    <a:pt x="114" y="117"/>
                  </a:cubicBezTo>
                  <a:cubicBezTo>
                    <a:pt x="33" y="195"/>
                    <a:pt x="0" y="360"/>
                    <a:pt x="33" y="456"/>
                  </a:cubicBezTo>
                  <a:cubicBezTo>
                    <a:pt x="66" y="552"/>
                    <a:pt x="196" y="654"/>
                    <a:pt x="312" y="694"/>
                  </a:cubicBezTo>
                  <a:cubicBezTo>
                    <a:pt x="428" y="734"/>
                    <a:pt x="587" y="707"/>
                    <a:pt x="731" y="697"/>
                  </a:cubicBezTo>
                  <a:cubicBezTo>
                    <a:pt x="876" y="686"/>
                    <a:pt x="1208" y="730"/>
                    <a:pt x="1177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31372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41920" y="4472280"/>
              <a:ext cx="2085840" cy="1155240"/>
            </a:xfrm>
            <a:custGeom>
              <a:avLst/>
              <a:gdLst/>
              <a:ahLst/>
              <a:rect l="l" t="t" r="r" b="b"/>
              <a:pathLst>
                <a:path w="1312" h="592">
                  <a:moveTo>
                    <a:pt x="64" y="258"/>
                  </a:moveTo>
                  <a:cubicBezTo>
                    <a:pt x="128" y="186"/>
                    <a:pt x="640" y="36"/>
                    <a:pt x="832" y="18"/>
                  </a:cubicBezTo>
                  <a:cubicBezTo>
                    <a:pt x="1024" y="0"/>
                    <a:pt x="1159" y="73"/>
                    <a:pt x="1218" y="151"/>
                  </a:cubicBezTo>
                  <a:cubicBezTo>
                    <a:pt x="1275" y="230"/>
                    <a:pt x="1312" y="382"/>
                    <a:pt x="1187" y="487"/>
                  </a:cubicBezTo>
                  <a:cubicBezTo>
                    <a:pt x="1062" y="592"/>
                    <a:pt x="965" y="587"/>
                    <a:pt x="832" y="577"/>
                  </a:cubicBezTo>
                  <a:cubicBezTo>
                    <a:pt x="716" y="571"/>
                    <a:pt x="576" y="503"/>
                    <a:pt x="448" y="450"/>
                  </a:cubicBezTo>
                  <a:cubicBezTo>
                    <a:pt x="320" y="397"/>
                    <a:pt x="0" y="330"/>
                    <a:pt x="64" y="258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31372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23560" y="2724120"/>
              <a:ext cx="2391840" cy="2352240"/>
            </a:xfrm>
            <a:custGeom>
              <a:avLst/>
              <a:gdLst/>
              <a:ahLst/>
              <a:rect l="l" t="t" r="r" b="b"/>
              <a:pathLst>
                <a:path w="1505" h="1480">
                  <a:moveTo>
                    <a:pt x="62" y="1251"/>
                  </a:moveTo>
                  <a:cubicBezTo>
                    <a:pt x="134" y="1067"/>
                    <a:pt x="396" y="539"/>
                    <a:pt x="593" y="336"/>
                  </a:cubicBezTo>
                  <a:cubicBezTo>
                    <a:pt x="790" y="133"/>
                    <a:pt x="1094" y="0"/>
                    <a:pt x="1245" y="31"/>
                  </a:cubicBezTo>
                  <a:cubicBezTo>
                    <a:pt x="1396" y="62"/>
                    <a:pt x="1505" y="202"/>
                    <a:pt x="1466" y="369"/>
                  </a:cubicBezTo>
                  <a:cubicBezTo>
                    <a:pt x="1427" y="536"/>
                    <a:pt x="1226" y="852"/>
                    <a:pt x="1008" y="1031"/>
                  </a:cubicBezTo>
                  <a:cubicBezTo>
                    <a:pt x="790" y="1210"/>
                    <a:pt x="316" y="1406"/>
                    <a:pt x="158" y="1443"/>
                  </a:cubicBezTo>
                  <a:cubicBezTo>
                    <a:pt x="0" y="1480"/>
                    <a:pt x="6" y="1435"/>
                    <a:pt x="62" y="1251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4843800" y="2805120"/>
              <a:ext cx="303840" cy="1027080"/>
              <a:chOff x="4843800" y="2805120"/>
              <a:chExt cx="303840" cy="1027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919760" y="311004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43800" y="295776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19760" y="2805120"/>
                <a:ext cx="3600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43800" y="3262320"/>
                <a:ext cx="3600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19760" y="341496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035320" y="333864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71680" y="356724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11280" y="379584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8098920" y="3125880"/>
              <a:ext cx="606600" cy="895680"/>
              <a:chOff x="8098920" y="3125880"/>
              <a:chExt cx="606600" cy="895680"/>
            </a:xfrm>
          </p:grpSpPr>
          <p:sp>
            <p:nvSpPr>
              <p:cNvPr id="126" name=""/>
              <p:cNvSpPr/>
              <p:nvPr/>
            </p:nvSpPr>
            <p:spPr>
              <a:xfrm flipH="1" rot="1320000">
                <a:off x="8537040" y="341424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rot="1320000">
                <a:off x="8664120" y="330084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rot="1320000">
                <a:off x="8651520" y="313092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rot="1320000">
                <a:off x="8549640" y="358344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320000">
                <a:off x="8422560" y="369720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rot="1320000">
                <a:off x="8345160" y="358344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1320000">
                <a:off x="8226360" y="378216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320000">
                <a:off x="8103960" y="3979800"/>
                <a:ext cx="36000" cy="3600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830840" y="4673520"/>
              <a:ext cx="947880" cy="516240"/>
              <a:chOff x="4830840" y="4673520"/>
              <a:chExt cx="947880" cy="516240"/>
            </a:xfrm>
          </p:grpSpPr>
          <p:sp>
            <p:nvSpPr>
              <p:cNvPr id="135" name=""/>
              <p:cNvSpPr/>
              <p:nvPr/>
            </p:nvSpPr>
            <p:spPr>
              <a:xfrm rot="18501600">
                <a:off x="5077080" y="487008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8501600">
                <a:off x="4910040" y="483516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8501600">
                <a:off x="4838040" y="4680720"/>
                <a:ext cx="3636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8501600">
                <a:off x="5149440" y="5024520"/>
                <a:ext cx="3636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8501600">
                <a:off x="5316480" y="505944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8501600">
                <a:off x="5328720" y="492120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8501600">
                <a:off x="5530680" y="503496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8501600">
                <a:off x="5734800" y="5145480"/>
                <a:ext cx="3672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253640" y="5152680"/>
              <a:ext cx="1019880" cy="336600"/>
              <a:chOff x="7253640" y="5152680"/>
              <a:chExt cx="1019880" cy="336600"/>
            </a:xfrm>
          </p:grpSpPr>
          <p:sp>
            <p:nvSpPr>
              <p:cNvPr id="144" name=""/>
              <p:cNvSpPr/>
              <p:nvPr/>
            </p:nvSpPr>
            <p:spPr>
              <a:xfrm flipH="1" rot="5538600">
                <a:off x="7931520" y="537048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rot="5538600">
                <a:off x="8080560" y="545220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5538600">
                <a:off x="8236080" y="5382720"/>
                <a:ext cx="3600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5538600">
                <a:off x="7776360" y="5439960"/>
                <a:ext cx="3600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5538600">
                <a:off x="7626960" y="535824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rot="5538600">
                <a:off x="7707600" y="524700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rot="5538600">
                <a:off x="7480800" y="520128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rot="5538600">
                <a:off x="7253640" y="515340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272720" y="4124160"/>
              <a:ext cx="990720" cy="436320"/>
              <a:chOff x="7272720" y="4124160"/>
              <a:chExt cx="990720" cy="436320"/>
            </a:xfrm>
          </p:grpSpPr>
          <p:sp>
            <p:nvSpPr>
              <p:cNvPr id="153" name=""/>
              <p:cNvSpPr/>
              <p:nvPr/>
            </p:nvSpPr>
            <p:spPr>
              <a:xfrm rot="4866600">
                <a:off x="7922880" y="422568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4866600">
                <a:off x="8061480" y="412668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4866600">
                <a:off x="8223840" y="4178160"/>
                <a:ext cx="3636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4866600">
                <a:off x="7760520" y="4173480"/>
                <a:ext cx="3636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4866600">
                <a:off x="7621560" y="427284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4866600">
                <a:off x="7715160" y="437544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866600">
                <a:off x="7494840" y="444672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4866600">
                <a:off x="7274880" y="4521240"/>
                <a:ext cx="3672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 flipH="1" rot="867000">
            <a:off x="4462920" y="2785680"/>
            <a:ext cx="2503440" cy="2062080"/>
          </a:xfrm>
          <a:custGeom>
            <a:avLst/>
            <a:gdLst/>
            <a:ahLst/>
            <a:rect l="l" t="t" r="r" b="b"/>
            <a:pathLst>
              <a:path w="1487" h="1453">
                <a:moveTo>
                  <a:pt x="62" y="1224"/>
                </a:moveTo>
                <a:cubicBezTo>
                  <a:pt x="134" y="1040"/>
                  <a:pt x="396" y="512"/>
                  <a:pt x="593" y="309"/>
                </a:cubicBezTo>
                <a:cubicBezTo>
                  <a:pt x="790" y="106"/>
                  <a:pt x="1103" y="0"/>
                  <a:pt x="1245" y="4"/>
                </a:cubicBezTo>
                <a:cubicBezTo>
                  <a:pt x="1387" y="8"/>
                  <a:pt x="1487" y="168"/>
                  <a:pt x="1448" y="335"/>
                </a:cubicBezTo>
                <a:cubicBezTo>
                  <a:pt x="1409" y="502"/>
                  <a:pt x="1223" y="824"/>
                  <a:pt x="1008" y="1004"/>
                </a:cubicBezTo>
                <a:cubicBezTo>
                  <a:pt x="793" y="1184"/>
                  <a:pt x="316" y="1379"/>
                  <a:pt x="158" y="1416"/>
                </a:cubicBezTo>
                <a:cubicBezTo>
                  <a:pt x="0" y="1453"/>
                  <a:pt x="6" y="1408"/>
                  <a:pt x="62" y="1224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>
                  <a:alpha val="5098"/>
                </a:srgbClr>
              </a:gs>
              <a:gs pos="100000">
                <a:srgbClr val="bbe0e3"/>
              </a:gs>
            </a:gsLst>
            <a:lin ang="627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69160" y="3879720"/>
            <a:ext cx="1171440" cy="887400"/>
          </a:xfrm>
          <a:custGeom>
            <a:avLst/>
            <a:gdLst/>
            <a:ahLst/>
            <a:rect l="l" t="t" r="r" b="b"/>
            <a:pathLst>
              <a:path w="676" h="513">
                <a:moveTo>
                  <a:pt x="0" y="345"/>
                </a:moveTo>
                <a:cubicBezTo>
                  <a:pt x="53" y="322"/>
                  <a:pt x="280" y="340"/>
                  <a:pt x="358" y="312"/>
                </a:cubicBezTo>
                <a:cubicBezTo>
                  <a:pt x="435" y="284"/>
                  <a:pt x="446" y="211"/>
                  <a:pt x="465" y="178"/>
                </a:cubicBezTo>
                <a:cubicBezTo>
                  <a:pt x="485" y="146"/>
                  <a:pt x="465" y="141"/>
                  <a:pt x="468" y="117"/>
                </a:cubicBezTo>
                <a:cubicBezTo>
                  <a:pt x="471" y="93"/>
                  <a:pt x="472" y="39"/>
                  <a:pt x="479" y="36"/>
                </a:cubicBezTo>
                <a:cubicBezTo>
                  <a:pt x="509" y="48"/>
                  <a:pt x="485" y="111"/>
                  <a:pt x="506" y="103"/>
                </a:cubicBezTo>
                <a:cubicBezTo>
                  <a:pt x="525" y="99"/>
                  <a:pt x="570" y="0"/>
                  <a:pt x="588" y="12"/>
                </a:cubicBezTo>
                <a:cubicBezTo>
                  <a:pt x="606" y="24"/>
                  <a:pt x="523" y="111"/>
                  <a:pt x="535" y="108"/>
                </a:cubicBezTo>
                <a:cubicBezTo>
                  <a:pt x="543" y="109"/>
                  <a:pt x="613" y="3"/>
                  <a:pt x="633" y="17"/>
                </a:cubicBezTo>
                <a:cubicBezTo>
                  <a:pt x="655" y="32"/>
                  <a:pt x="556" y="118"/>
                  <a:pt x="566" y="119"/>
                </a:cubicBezTo>
                <a:cubicBezTo>
                  <a:pt x="569" y="125"/>
                  <a:pt x="630" y="41"/>
                  <a:pt x="653" y="56"/>
                </a:cubicBezTo>
                <a:cubicBezTo>
                  <a:pt x="676" y="70"/>
                  <a:pt x="575" y="138"/>
                  <a:pt x="579" y="145"/>
                </a:cubicBezTo>
                <a:cubicBezTo>
                  <a:pt x="578" y="154"/>
                  <a:pt x="632" y="96"/>
                  <a:pt x="649" y="106"/>
                </a:cubicBezTo>
                <a:cubicBezTo>
                  <a:pt x="666" y="117"/>
                  <a:pt x="575" y="178"/>
                  <a:pt x="548" y="217"/>
                </a:cubicBezTo>
                <a:cubicBezTo>
                  <a:pt x="518" y="266"/>
                  <a:pt x="505" y="356"/>
                  <a:pt x="471" y="397"/>
                </a:cubicBezTo>
                <a:cubicBezTo>
                  <a:pt x="437" y="438"/>
                  <a:pt x="410" y="447"/>
                  <a:pt x="342" y="463"/>
                </a:cubicBezTo>
                <a:cubicBezTo>
                  <a:pt x="274" y="479"/>
                  <a:pt x="120" y="513"/>
                  <a:pt x="63" y="493"/>
                </a:cubicBezTo>
                <a:cubicBezTo>
                  <a:pt x="6" y="473"/>
                  <a:pt x="13" y="376"/>
                  <a:pt x="0" y="34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59440" y="4400640"/>
            <a:ext cx="1474560" cy="892080"/>
          </a:xfrm>
          <a:custGeom>
            <a:avLst/>
            <a:gdLst/>
            <a:ahLst/>
            <a:rect l="l" t="t" r="r" b="b"/>
            <a:pathLst>
              <a:path w="857" h="519">
                <a:moveTo>
                  <a:pt x="648" y="8"/>
                </a:moveTo>
                <a:cubicBezTo>
                  <a:pt x="603" y="0"/>
                  <a:pt x="498" y="20"/>
                  <a:pt x="424" y="67"/>
                </a:cubicBezTo>
                <a:cubicBezTo>
                  <a:pt x="348" y="115"/>
                  <a:pt x="261" y="247"/>
                  <a:pt x="195" y="294"/>
                </a:cubicBezTo>
                <a:cubicBezTo>
                  <a:pt x="129" y="338"/>
                  <a:pt x="55" y="330"/>
                  <a:pt x="28" y="347"/>
                </a:cubicBezTo>
                <a:cubicBezTo>
                  <a:pt x="0" y="362"/>
                  <a:pt x="20" y="379"/>
                  <a:pt x="29" y="389"/>
                </a:cubicBezTo>
                <a:cubicBezTo>
                  <a:pt x="26" y="399"/>
                  <a:pt x="34" y="412"/>
                  <a:pt x="47" y="415"/>
                </a:cubicBezTo>
                <a:cubicBezTo>
                  <a:pt x="47" y="424"/>
                  <a:pt x="58" y="440"/>
                  <a:pt x="74" y="444"/>
                </a:cubicBezTo>
                <a:cubicBezTo>
                  <a:pt x="73" y="461"/>
                  <a:pt x="85" y="458"/>
                  <a:pt x="101" y="457"/>
                </a:cubicBezTo>
                <a:cubicBezTo>
                  <a:pt x="117" y="457"/>
                  <a:pt x="158" y="436"/>
                  <a:pt x="174" y="442"/>
                </a:cubicBezTo>
                <a:cubicBezTo>
                  <a:pt x="189" y="448"/>
                  <a:pt x="183" y="491"/>
                  <a:pt x="190" y="492"/>
                </a:cubicBezTo>
                <a:cubicBezTo>
                  <a:pt x="228" y="519"/>
                  <a:pt x="216" y="468"/>
                  <a:pt x="220" y="446"/>
                </a:cubicBezTo>
                <a:cubicBezTo>
                  <a:pt x="222" y="423"/>
                  <a:pt x="214" y="411"/>
                  <a:pt x="261" y="369"/>
                </a:cubicBezTo>
                <a:cubicBezTo>
                  <a:pt x="308" y="327"/>
                  <a:pt x="418" y="238"/>
                  <a:pt x="504" y="192"/>
                </a:cubicBezTo>
                <a:cubicBezTo>
                  <a:pt x="590" y="146"/>
                  <a:pt x="756" y="121"/>
                  <a:pt x="780" y="90"/>
                </a:cubicBezTo>
                <a:cubicBezTo>
                  <a:pt x="857" y="52"/>
                  <a:pt x="693" y="17"/>
                  <a:pt x="648" y="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334120" y="2666880"/>
            <a:ext cx="21049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118720" y="691920"/>
            <a:ext cx="995400" cy="1366560"/>
            <a:chOff x="8118720" y="691920"/>
            <a:chExt cx="995400" cy="1366560"/>
          </a:xfrm>
        </p:grpSpPr>
        <p:sp>
          <p:nvSpPr>
            <p:cNvPr id="166" name=""/>
            <p:cNvSpPr/>
            <p:nvPr/>
          </p:nvSpPr>
          <p:spPr>
            <a:xfrm rot="13855800">
              <a:off x="8219880" y="97776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13855800">
              <a:off x="8379000" y="85644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8118720" y="691920"/>
              <a:ext cx="621000" cy="646920"/>
              <a:chOff x="8118720" y="691920"/>
              <a:chExt cx="621000" cy="6469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8118720" y="837000"/>
                <a:ext cx="145800" cy="118440"/>
                <a:chOff x="8118720" y="837000"/>
                <a:chExt cx="145800" cy="118440"/>
              </a:xfrm>
            </p:grpSpPr>
            <p:sp>
              <p:nvSpPr>
                <p:cNvPr id="170" name=""/>
                <p:cNvSpPr/>
                <p:nvPr/>
              </p:nvSpPr>
              <p:spPr>
                <a:xfrm rot="13855800">
                  <a:off x="8128440" y="85032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3855800">
                  <a:off x="8154720" y="86976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8281440" y="691920"/>
                <a:ext cx="112680" cy="156240"/>
                <a:chOff x="8281440" y="691920"/>
                <a:chExt cx="112680" cy="156240"/>
              </a:xfrm>
            </p:grpSpPr>
            <p:sp>
              <p:nvSpPr>
                <p:cNvPr id="173" name=""/>
                <p:cNvSpPr/>
                <p:nvPr/>
              </p:nvSpPr>
              <p:spPr>
                <a:xfrm flipV="1" rot="13855200">
                  <a:off x="8303760" y="70236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 rot="13855200">
                  <a:off x="8282880" y="75960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rot="13855800">
                <a:off x="8323920" y="97524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3855800">
                <a:off x="8464680" y="93780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3855800">
                <a:off x="8516160" y="100044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3855800">
                <a:off x="8564040" y="107352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3855800">
                <a:off x="8249760" y="82872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rot="13855800">
              <a:off x="8274240" y="8992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55800">
              <a:off x="8325000" y="85176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3855800">
              <a:off x="8384400" y="139968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206360" y="366480"/>
            <a:ext cx="1409400" cy="857880"/>
            <a:chOff x="1206360" y="366480"/>
            <a:chExt cx="1409400" cy="857880"/>
          </a:xfrm>
        </p:grpSpPr>
        <p:sp>
          <p:nvSpPr>
            <p:cNvPr id="184" name=""/>
            <p:cNvSpPr/>
            <p:nvPr/>
          </p:nvSpPr>
          <p:spPr>
            <a:xfrm rot="19756200">
              <a:off x="1914480" y="45684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19756800">
              <a:off x="2025360" y="64800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946520" y="366480"/>
              <a:ext cx="669240" cy="570240"/>
              <a:chOff x="1946520" y="366480"/>
              <a:chExt cx="669240" cy="5702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2371320" y="366480"/>
                <a:ext cx="124560" cy="136800"/>
                <a:chOff x="2371320" y="366480"/>
                <a:chExt cx="124560" cy="136800"/>
              </a:xfrm>
            </p:grpSpPr>
            <p:sp>
              <p:nvSpPr>
                <p:cNvPr id="188" name=""/>
                <p:cNvSpPr/>
                <p:nvPr/>
              </p:nvSpPr>
              <p:spPr>
                <a:xfrm rot="19756200">
                  <a:off x="2431080" y="37656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9756200">
                  <a:off x="2376720" y="42624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458800" y="543240"/>
                <a:ext cx="156960" cy="104040"/>
                <a:chOff x="2458800" y="543240"/>
                <a:chExt cx="156960" cy="104040"/>
              </a:xfrm>
            </p:grpSpPr>
            <p:sp>
              <p:nvSpPr>
                <p:cNvPr id="191" name=""/>
                <p:cNvSpPr/>
                <p:nvPr/>
              </p:nvSpPr>
              <p:spPr>
                <a:xfrm flipV="1" rot="19756200">
                  <a:off x="2550240" y="56880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 rot="19756200">
                  <a:off x="2465280" y="56664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 rot="19756200">
                <a:off x="1986480" y="59400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9756200">
                <a:off x="2199240" y="56916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9756200">
                <a:off x="2130840" y="61056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56200">
                <a:off x="2068560" y="66384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9756200">
                <a:off x="2262960" y="49068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rot="19756200">
              <a:off x="2399760" y="5158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9756200">
              <a:off x="2439360" y="57312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756200">
              <a:off x="1285920" y="59688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999240" y="1109160"/>
            <a:ext cx="1318320" cy="1080360"/>
            <a:chOff x="3999240" y="1109160"/>
            <a:chExt cx="1318320" cy="1080360"/>
          </a:xfrm>
        </p:grpSpPr>
        <p:sp>
          <p:nvSpPr>
            <p:cNvPr id="202" name=""/>
            <p:cNvSpPr/>
            <p:nvPr/>
          </p:nvSpPr>
          <p:spPr>
            <a:xfrm rot="8101200">
              <a:off x="4236840" y="165492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8101200">
              <a:off x="4085640" y="152460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999240" y="1541160"/>
              <a:ext cx="623160" cy="648360"/>
              <a:chOff x="3999240" y="1541160"/>
              <a:chExt cx="623160" cy="648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158000" y="2039400"/>
                <a:ext cx="114840" cy="150120"/>
                <a:chOff x="4158000" y="2039400"/>
                <a:chExt cx="114840" cy="150120"/>
              </a:xfrm>
            </p:grpSpPr>
            <p:sp>
              <p:nvSpPr>
                <p:cNvPr id="206" name=""/>
                <p:cNvSpPr/>
                <p:nvPr/>
              </p:nvSpPr>
              <p:spPr>
                <a:xfrm rot="8101200">
                  <a:off x="4173840" y="212508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8101200">
                  <a:off x="4160520" y="207036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999240" y="1921680"/>
                <a:ext cx="154080" cy="117000"/>
                <a:chOff x="3999240" y="1921680"/>
                <a:chExt cx="154080" cy="117000"/>
              </a:xfrm>
            </p:grpSpPr>
            <p:sp>
              <p:nvSpPr>
                <p:cNvPr id="209" name=""/>
                <p:cNvSpPr/>
                <p:nvPr/>
              </p:nvSpPr>
              <p:spPr>
                <a:xfrm flipV="1" rot="8100600">
                  <a:off x="4011120" y="196416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 rot="8100600">
                  <a:off x="4039920" y="195156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 rot="8101200">
                <a:off x="4201200" y="163836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8101200">
                <a:off x="4338000" y="167292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8101200">
                <a:off x="4395960" y="161568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8101200">
                <a:off x="4449600" y="157968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8101200">
                <a:off x="4127040" y="183852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rot="8101200">
              <a:off x="4209480" y="201276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8101200">
              <a:off x="4157280" y="196704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8101200">
              <a:off x="4579200" y="127008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92640" y="3575880"/>
            <a:ext cx="1284480" cy="1103760"/>
            <a:chOff x="692640" y="3575880"/>
            <a:chExt cx="1284480" cy="1103760"/>
          </a:xfrm>
        </p:grpSpPr>
        <p:sp>
          <p:nvSpPr>
            <p:cNvPr id="220" name=""/>
            <p:cNvSpPr/>
            <p:nvPr/>
          </p:nvSpPr>
          <p:spPr>
            <a:xfrm rot="1436400">
              <a:off x="1338840" y="405648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 rot="1436400">
              <a:off x="1257840" y="426384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287000" y="4128120"/>
              <a:ext cx="690120" cy="486000"/>
              <a:chOff x="1287000" y="4128120"/>
              <a:chExt cx="690120" cy="48600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1824120" y="4328280"/>
                <a:ext cx="153000" cy="92520"/>
                <a:chOff x="1824120" y="4328280"/>
                <a:chExt cx="153000" cy="92520"/>
              </a:xfrm>
            </p:grpSpPr>
            <p:sp>
              <p:nvSpPr>
                <p:cNvPr id="224" name=""/>
                <p:cNvSpPr/>
                <p:nvPr/>
              </p:nvSpPr>
              <p:spPr>
                <a:xfrm rot="1436400">
                  <a:off x="1913400" y="434124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1436400">
                  <a:off x="1829880" y="434808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758240" y="4481280"/>
                <a:ext cx="129600" cy="132840"/>
                <a:chOff x="1758240" y="4481280"/>
                <a:chExt cx="129600" cy="132840"/>
              </a:xfrm>
            </p:grpSpPr>
            <p:sp>
              <p:nvSpPr>
                <p:cNvPr id="227" name=""/>
                <p:cNvSpPr/>
                <p:nvPr/>
              </p:nvSpPr>
              <p:spPr>
                <a:xfrm flipV="1" rot="1436400">
                  <a:off x="1824120" y="454932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 rot="1436400">
                  <a:off x="1764720" y="450072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 rot="1436400">
                <a:off x="1323360" y="419472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436400">
                <a:off x="1539000" y="421416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436400">
                <a:off x="1466640" y="418140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436400">
                <a:off x="1400400" y="416700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436400">
                <a:off x="1624320" y="430380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rot="1436400">
              <a:off x="1803600" y="438912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436400">
              <a:off x="1779840" y="44542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436400">
              <a:off x="763920" y="368856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080" y="1129320"/>
            <a:ext cx="1298880" cy="1068120"/>
            <a:chOff x="1080" y="1129320"/>
            <a:chExt cx="1298880" cy="1068120"/>
          </a:xfrm>
        </p:grpSpPr>
        <p:sp>
          <p:nvSpPr>
            <p:cNvPr id="238" name=""/>
            <p:cNvSpPr/>
            <p:nvPr/>
          </p:nvSpPr>
          <p:spPr>
            <a:xfrm rot="1271400">
              <a:off x="656640" y="157716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 rot="1271400">
              <a:off x="585720" y="178776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611280" y="1656720"/>
              <a:ext cx="688680" cy="462960"/>
              <a:chOff x="611280" y="1656720"/>
              <a:chExt cx="688680" cy="46296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148040" y="1835280"/>
                <a:ext cx="151920" cy="88560"/>
                <a:chOff x="1148040" y="1835280"/>
                <a:chExt cx="151920" cy="88560"/>
              </a:xfrm>
            </p:grpSpPr>
            <p:sp>
              <p:nvSpPr>
                <p:cNvPr id="242" name=""/>
                <p:cNvSpPr/>
                <p:nvPr/>
              </p:nvSpPr>
              <p:spPr>
                <a:xfrm rot="1271400">
                  <a:off x="1236960" y="184356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271400">
                  <a:off x="1153800" y="185328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090080" y="1991160"/>
                <a:ext cx="130680" cy="128520"/>
                <a:chOff x="1090080" y="1991160"/>
                <a:chExt cx="130680" cy="128520"/>
              </a:xfrm>
            </p:grpSpPr>
            <p:sp>
              <p:nvSpPr>
                <p:cNvPr id="245" name=""/>
                <p:cNvSpPr/>
                <p:nvPr/>
              </p:nvSpPr>
              <p:spPr>
                <a:xfrm flipV="1" rot="1271400">
                  <a:off x="1157760" y="205560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 rot="1271400">
                  <a:off x="1096200" y="200844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rot="1271400">
                <a:off x="645480" y="171720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271400">
                <a:off x="862200" y="173448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271400">
                <a:off x="788040" y="170532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271400">
                <a:off x="720360" y="169452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271400">
                <a:off x="949680" y="181620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 rot="1271400">
              <a:off x="1128960" y="189720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271400">
              <a:off x="1108080" y="196380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271400">
              <a:off x="68040" y="123192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486960" y="3407400"/>
            <a:ext cx="1284840" cy="1102680"/>
            <a:chOff x="3486960" y="3407400"/>
            <a:chExt cx="1284840" cy="1102680"/>
          </a:xfrm>
        </p:grpSpPr>
        <p:sp>
          <p:nvSpPr>
            <p:cNvPr id="256" name=""/>
            <p:cNvSpPr/>
            <p:nvPr/>
          </p:nvSpPr>
          <p:spPr>
            <a:xfrm rot="12231000">
              <a:off x="3685320" y="366048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 rot="12231000">
              <a:off x="3765600" y="348120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486960" y="3473640"/>
              <a:ext cx="689760" cy="485280"/>
              <a:chOff x="3486960" y="3473640"/>
              <a:chExt cx="689760" cy="4852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3486960" y="3666600"/>
                <a:ext cx="152640" cy="92520"/>
                <a:chOff x="3486960" y="3666600"/>
                <a:chExt cx="152640" cy="92520"/>
              </a:xfrm>
            </p:grpSpPr>
            <p:sp>
              <p:nvSpPr>
                <p:cNvPr id="260" name=""/>
                <p:cNvSpPr/>
                <p:nvPr/>
              </p:nvSpPr>
              <p:spPr>
                <a:xfrm rot="12231000">
                  <a:off x="3495240" y="369324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12231000">
                  <a:off x="3523680" y="368640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575520" y="3473640"/>
                <a:ext cx="129600" cy="132840"/>
                <a:chOff x="3575520" y="3473640"/>
                <a:chExt cx="129600" cy="132840"/>
              </a:xfrm>
            </p:grpSpPr>
            <p:sp>
              <p:nvSpPr>
                <p:cNvPr id="263" name=""/>
                <p:cNvSpPr/>
                <p:nvPr/>
              </p:nvSpPr>
              <p:spPr>
                <a:xfrm flipV="1" rot="12230400">
                  <a:off x="3584160" y="348228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 rot="12230400">
                  <a:off x="3588840" y="353052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rot="12231000">
                <a:off x="3755520" y="362952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2231000">
                <a:off x="3882240" y="360972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2231000">
                <a:off x="3956760" y="364248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2231000">
                <a:off x="4025520" y="368820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2231000">
                <a:off x="3619800" y="357264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rot="12231000">
              <a:off x="3640320" y="368064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2231000">
              <a:off x="3664080" y="36154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2231000">
              <a:off x="4039920" y="390384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008560" y="4808160"/>
            <a:ext cx="991440" cy="1368720"/>
            <a:chOff x="8008560" y="4808160"/>
            <a:chExt cx="991440" cy="1368720"/>
          </a:xfrm>
        </p:grpSpPr>
        <p:sp>
          <p:nvSpPr>
            <p:cNvPr id="274" name=""/>
            <p:cNvSpPr/>
            <p:nvPr/>
          </p:nvSpPr>
          <p:spPr>
            <a:xfrm rot="3073200">
              <a:off x="8460000" y="552024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 rot="3073200">
              <a:off x="8300160" y="566928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8380800" y="5528520"/>
              <a:ext cx="619200" cy="648360"/>
              <a:chOff x="8380800" y="5528520"/>
              <a:chExt cx="619200" cy="64836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8854200" y="5913720"/>
                <a:ext cx="145800" cy="118440"/>
                <a:chOff x="8854200" y="5913720"/>
                <a:chExt cx="145800" cy="118440"/>
              </a:xfrm>
            </p:grpSpPr>
            <p:sp>
              <p:nvSpPr>
                <p:cNvPr id="278" name=""/>
                <p:cNvSpPr/>
                <p:nvPr/>
              </p:nvSpPr>
              <p:spPr>
                <a:xfrm rot="3073200">
                  <a:off x="8934480" y="596628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3073200">
                  <a:off x="8854200" y="594648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8724240" y="6020280"/>
                <a:ext cx="112320" cy="156600"/>
                <a:chOff x="8724240" y="6020280"/>
                <a:chExt cx="112320" cy="156600"/>
              </a:xfrm>
            </p:grpSpPr>
            <p:sp>
              <p:nvSpPr>
                <p:cNvPr id="281" name=""/>
                <p:cNvSpPr/>
                <p:nvPr/>
              </p:nvSpPr>
              <p:spPr>
                <a:xfrm flipV="1" rot="3072600">
                  <a:off x="8759160" y="610956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 rot="3072600">
                  <a:off x="8725680" y="605196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 rot="3073200">
                <a:off x="8411040" y="562896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3073200">
                <a:off x="8612640" y="566712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3073200">
                <a:off x="8562960" y="560412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3073200">
                <a:off x="8518320" y="556200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3073200">
                <a:off x="8649360" y="582948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 rot="3073200">
              <a:off x="8825400" y="595224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3073200">
              <a:off x="8773920" y="599940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3073200">
              <a:off x="8077320" y="497304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49040" y="5090760"/>
            <a:ext cx="1409400" cy="857880"/>
            <a:chOff x="149040" y="5090760"/>
            <a:chExt cx="1409400" cy="857880"/>
          </a:xfrm>
        </p:grpSpPr>
        <p:sp>
          <p:nvSpPr>
            <p:cNvPr id="292" name=""/>
            <p:cNvSpPr/>
            <p:nvPr/>
          </p:nvSpPr>
          <p:spPr>
            <a:xfrm rot="19756200">
              <a:off x="857160" y="518112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19756800">
              <a:off x="968040" y="537228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889200" y="5090760"/>
              <a:ext cx="669240" cy="570240"/>
              <a:chOff x="889200" y="5090760"/>
              <a:chExt cx="669240" cy="5702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1314000" y="5090760"/>
                <a:ext cx="124560" cy="136800"/>
                <a:chOff x="1314000" y="5090760"/>
                <a:chExt cx="124560" cy="136800"/>
              </a:xfrm>
            </p:grpSpPr>
            <p:sp>
              <p:nvSpPr>
                <p:cNvPr id="296" name=""/>
                <p:cNvSpPr/>
                <p:nvPr/>
              </p:nvSpPr>
              <p:spPr>
                <a:xfrm rot="19756200">
                  <a:off x="1373760" y="510084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9756200">
                  <a:off x="1319400" y="515052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401480" y="5267520"/>
                <a:ext cx="156960" cy="104040"/>
                <a:chOff x="1401480" y="5267520"/>
                <a:chExt cx="156960" cy="104040"/>
              </a:xfrm>
            </p:grpSpPr>
            <p:sp>
              <p:nvSpPr>
                <p:cNvPr id="299" name=""/>
                <p:cNvSpPr/>
                <p:nvPr/>
              </p:nvSpPr>
              <p:spPr>
                <a:xfrm flipV="1" rot="19756200">
                  <a:off x="1492920" y="529308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 rot="19756200">
                  <a:off x="1407960" y="529092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 rot="19756200">
                <a:off x="929160" y="531828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9756200">
                <a:off x="1141920" y="529344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56200">
                <a:off x="1073520" y="533484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56200">
                <a:off x="1011240" y="538812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6200">
                <a:off x="1205640" y="521496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rot="19756200">
              <a:off x="1342440" y="524016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9756200">
              <a:off x="1382040" y="529740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9756200">
              <a:off x="228600" y="532116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312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313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317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321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326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331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335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339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343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876920" y="135576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Hello!                  Who ……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349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350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354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358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274320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62560" y="1828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3505320" y="2514600"/>
            <a:ext cx="1352520" cy="139068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370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371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384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393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402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411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9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" name="" descr=""/>
            <p:cNvPicPr/>
            <p:nvPr/>
          </p:nvPicPr>
          <p:blipFill>
            <a:blip r:embed="rId6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0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1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50" autoRev="1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" dur="250" autoRev="1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" dur="250" autoRev="1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429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430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434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438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443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448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452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456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460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876920" y="14320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Hello!                  I …… May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466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467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471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475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274320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483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62720" y="1889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486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487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500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509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518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527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3371760" y="2514600"/>
            <a:ext cx="1352520" cy="1390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250" autoRev="1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" dur="25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545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546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547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551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555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560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565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569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573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577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876920" y="150804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……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you Maya’s 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583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588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592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98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67280" y="1371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603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604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617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626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635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644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11"/>
          <a:stretch/>
        </p:blipFill>
        <p:spPr>
          <a:xfrm>
            <a:off x="3352680" y="2362320"/>
            <a:ext cx="1305000" cy="1485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" dur="250" autoRev="1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50" autoRev="1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" dur="250" autoRev="1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662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663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664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668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672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677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682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686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690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694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4800600" y="181296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Yes, I …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700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701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705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709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2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715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0" y="1676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720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721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734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743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752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761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9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0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1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1"/>
          <a:stretch/>
        </p:blipFill>
        <p:spPr>
          <a:xfrm>
            <a:off x="3352680" y="2362320"/>
            <a:ext cx="1305000" cy="1485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6" dur="250" autoRev="1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7" dur="250" autoRev="1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2" dur="250" autoRev="1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3" dur="250" autoRev="1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780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781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785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789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2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794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799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803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807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811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572000" y="160020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She …… Maya’s m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817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818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822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826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9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832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834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019920" y="1447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837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838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1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851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860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869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878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6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7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8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11"/>
          <a:stretch/>
        </p:blipFill>
        <p:spPr>
          <a:xfrm>
            <a:off x="3352680" y="2514600"/>
            <a:ext cx="1419480" cy="1371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250" autoRev="1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3" dur="250" autoRev="1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4" dur="250" autoRev="1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83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83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250" autoRev="1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0" dur="250" autoRev="1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250" autoRev="1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896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897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898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902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906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9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911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916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920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924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928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4876920" y="150804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……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he Maya’s 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934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935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939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943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6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49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951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181480" y="1355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954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955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968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977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986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995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3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4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5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11"/>
          <a:stretch/>
        </p:blipFill>
        <p:spPr>
          <a:xfrm>
            <a:off x="3448080" y="2286000"/>
            <a:ext cx="1123920" cy="1600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2" dur="250" autoRev="1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50" autoRev="1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250" autoRev="1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9:56:42Z</dcterms:created>
  <dc:creator>Gabi Sandru</dc:creator>
  <dc:description/>
  <dc:language>en-US</dc:language>
  <cp:lastModifiedBy>Gabi Sandru</cp:lastModifiedBy>
  <dcterms:modified xsi:type="dcterms:W3CDTF">2009-11-10T20:11:56Z</dcterms:modified>
  <cp:revision>5</cp:revision>
  <dc:subject>verb to be</dc:subject>
  <dc:title>Mister To Be 1</dc:title>
</cp:coreProperties>
</file>